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0D1C-B326-4121-BD49-D9C60133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9E74-A40F-4195-B97F-34446C59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8C19-293C-4D90-A51C-EE32C98F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30D2-3E11-4FC3-AA40-6AB9AB87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EAE-7F74-4671-AE9D-110BDFE5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2A1E-6BEA-4CAC-81F1-1968300A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20EF-3F2F-4EC9-9C73-F7EAE31A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CF98-8FD9-4F19-95EE-8BF236E8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E01C-5097-4795-AE9B-0ED39344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7380-8503-4609-BC68-1988905D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611E-DBBC-46F3-BFE2-7560593C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BD41-2E03-46D4-92F4-B2B0579C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AF52-14D1-41E6-9CA7-6B6ABE5C94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how.com/video_2389619_use-mastering-art-puppet-theater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 rot="640200">
            <a:off x="0" y="0"/>
            <a:ext cx="5508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539640" y="549360"/>
            <a:ext cx="6337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Cooper Black"/>
              </a:rPr>
              <a:t>Explanation</a:t>
            </a:r>
            <a:endParaRPr b="0" lang="en-US" sz="2400" spc="1" strike="noStrike">
              <a:ln w="507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Cooper Black"/>
              <a:ea typeface="Cooper Black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95280" y="213372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Century Gothic"/>
              </a:rPr>
              <a:t>When do I use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468360" y="3068640"/>
            <a:ext cx="468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entury Gothic"/>
              </a:rPr>
              <a:t>To tell or explain how things work or how they came to b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 rot="640200">
            <a:off x="0" y="0"/>
            <a:ext cx="5508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3"/>
          <p:cNvSpPr txBox="1"/>
          <p:nvPr/>
        </p:nvSpPr>
        <p:spPr>
          <a:xfrm>
            <a:off x="539640" y="549360"/>
            <a:ext cx="6337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Cooper Black"/>
              </a:rPr>
              <a:t>Explanation</a:t>
            </a:r>
            <a:endParaRPr b="0" lang="en-US" sz="2400" spc="1" strike="noStrike">
              <a:ln w="507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Cooper Black"/>
              <a:ea typeface="Cooper Black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84360" y="2492280"/>
            <a:ext cx="374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how.com/video_2389619_use-mastering-art-puppet-theate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24000" y="3645000"/>
            <a:ext cx="511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ow to Use a Moving Mouth Pupp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puppet-crafts-and-activities-for-kids-6"/>
          <p:cNvPicPr/>
          <p:nvPr/>
        </p:nvPicPr>
        <p:blipFill>
          <a:blip r:embed="rId2"/>
          <a:stretch/>
        </p:blipFill>
        <p:spPr>
          <a:xfrm>
            <a:off x="6012000" y="2924280"/>
            <a:ext cx="244152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 rot="640200">
            <a:off x="0" y="0"/>
            <a:ext cx="5508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3"/>
          <p:cNvSpPr txBox="1"/>
          <p:nvPr/>
        </p:nvSpPr>
        <p:spPr>
          <a:xfrm>
            <a:off x="539640" y="549360"/>
            <a:ext cx="6337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Cooper Black"/>
              </a:rPr>
              <a:t>Explanation</a:t>
            </a:r>
            <a:endParaRPr b="0" lang="en-US" sz="2400" spc="1" strike="noStrike">
              <a:ln w="507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Cooper Black"/>
              <a:ea typeface="Cooper Black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468360" y="3429000"/>
            <a:ext cx="52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ff"/>
                </a:solidFill>
                <a:uFillTx/>
                <a:latin typeface="Century Gothic"/>
              </a:rPr>
              <a:t>What features might I find insi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2"/>
          <p:cNvSpPr/>
          <p:nvPr/>
        </p:nvSpPr>
        <p:spPr>
          <a:xfrm>
            <a:off x="6948360" y="189000"/>
            <a:ext cx="144000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 rot="640200">
            <a:off x="0" y="0"/>
            <a:ext cx="5508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084720" y="907920"/>
            <a:ext cx="2664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Know where to fin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084720" y="3284640"/>
            <a:ext cx="2664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Understand features of explanation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084720" y="1557360"/>
            <a:ext cx="2519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ents page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084720" y="4005360"/>
            <a:ext cx="30592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ents, Index, Glo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headings, diagrams, flowcharts, phot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 tense, technical vocabulary, time words, conn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684360" y="1052640"/>
            <a:ext cx="47512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.O.: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stand the books we read and use them to find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sessment Foc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F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range of strategies, including accurate decoding of text, to read for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F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, describe, select or retrieve information, events or ideas from texts and use quotation and reference to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F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and comment on the structure and organisation of texts, including grammatical and presentational features at text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 rot="640200">
            <a:off x="0" y="0"/>
            <a:ext cx="5508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3"/>
          <p:cNvSpPr txBox="1"/>
          <p:nvPr/>
        </p:nvSpPr>
        <p:spPr>
          <a:xfrm>
            <a:off x="539640" y="549360"/>
            <a:ext cx="6337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Cooper Black"/>
              </a:rPr>
              <a:t>Explanation</a:t>
            </a:r>
            <a:endParaRPr b="0" lang="en-US" sz="2400" spc="1" strike="noStrike">
              <a:ln w="507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Cooper Black"/>
              <a:ea typeface="Cooper Black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95280" y="213372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Century Gothic"/>
              </a:rPr>
              <a:t>When do I use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 rot="240600">
            <a:off x="1834560" y="3284640"/>
            <a:ext cx="5688000" cy="187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entury Gothic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Write what is going to be expl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 rot="640200">
            <a:off x="0" y="0"/>
            <a:ext cx="5508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3"/>
          <p:cNvSpPr txBox="1"/>
          <p:nvPr/>
        </p:nvSpPr>
        <p:spPr>
          <a:xfrm>
            <a:off x="539640" y="549360"/>
            <a:ext cx="6337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Cooper Black"/>
              </a:rPr>
              <a:t>Explanation</a:t>
            </a:r>
            <a:endParaRPr b="0" lang="en-US" sz="2400" spc="1" strike="noStrike">
              <a:ln w="507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Cooper Black"/>
              <a:ea typeface="Cooper Black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95280" y="1844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Century Gothic"/>
              </a:rPr>
              <a:t>When do I use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 rot="21168000">
            <a:off x="2484720" y="2420640"/>
            <a:ext cx="5977080" cy="382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entury Gothic"/>
              </a:rPr>
              <a:t>Explanation Sequ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Use time words and connectives to describe or explain a process. You can include diagrams or flowcharts, which you will need to comment 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 rot="3074400">
            <a:off x="4716000" y="1773360"/>
            <a:ext cx="936720" cy="504720"/>
          </a:xfrm>
          <a:prstGeom prst="rightArrow">
            <a:avLst>
              <a:gd name="adj1" fmla="val 50000"/>
              <a:gd name="adj2" fmla="val 4639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 rot="640200">
            <a:off x="0" y="0"/>
            <a:ext cx="5508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3"/>
          <p:cNvSpPr txBox="1"/>
          <p:nvPr/>
        </p:nvSpPr>
        <p:spPr>
          <a:xfrm>
            <a:off x="539640" y="549360"/>
            <a:ext cx="6337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latin typeface="Cooper Black"/>
              </a:rPr>
              <a:t>Explanation</a:t>
            </a:r>
            <a:endParaRPr b="0" lang="en-US" sz="2400" spc="1" strike="noStrike">
              <a:ln w="50760">
                <a:solidFill>
                  <a:srgbClr val="000000"/>
                </a:solidFill>
                <a:miter/>
              </a:ln>
              <a:solidFill>
                <a:srgbClr val="6699ff"/>
              </a:solidFill>
              <a:latin typeface="Cooper Black"/>
              <a:ea typeface="Cooper Black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95280" y="184464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00"/>
                </a:solidFill>
                <a:uFillTx/>
                <a:latin typeface="Century Gothic"/>
              </a:rPr>
              <a:t>When do I use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 rot="21252600">
            <a:off x="802800" y="2709000"/>
            <a:ext cx="4703760" cy="3395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entury Gothic"/>
              </a:rPr>
              <a:t>Concluding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You may want to include interesting comments about what you have expl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 rot="9600600">
            <a:off x="5724000" y="3715920"/>
            <a:ext cx="936720" cy="504720"/>
          </a:xfrm>
          <a:prstGeom prst="rightArrow">
            <a:avLst>
              <a:gd name="adj1" fmla="val 50000"/>
              <a:gd name="adj2" fmla="val 4639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 rot="640200">
            <a:off x="0" y="0"/>
            <a:ext cx="5508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 rot="21252600">
            <a:off x="324360" y="2349360"/>
            <a:ext cx="2209680" cy="26920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entury Gothic"/>
              </a:rPr>
              <a:t>Concluding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</a:rPr>
              <a:t>You may want to include interesting comments about what you have expla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 rot="3633000">
            <a:off x="6048360" y="2528640"/>
            <a:ext cx="1368360" cy="720720"/>
          </a:xfrm>
          <a:prstGeom prst="rightArrow">
            <a:avLst>
              <a:gd name="adj1" fmla="val 50000"/>
              <a:gd name="adj2" fmla="val 474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 rot="21168000">
            <a:off x="4290840" y="3788640"/>
            <a:ext cx="4292640" cy="23601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entury Gothic"/>
              </a:rPr>
              <a:t>Explanatio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</a:rPr>
              <a:t>Use time words and connectives to describe or explain a process. You can include diagrams or flowcharts, which you will need to comment on.</a:t>
            </a: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 rot="240600">
            <a:off x="2770920" y="980640"/>
            <a:ext cx="3422880" cy="1167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entury Gothic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</a:rPr>
              <a:t>Write what is going to be expla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0"/>
          <p:cNvSpPr/>
          <p:nvPr/>
        </p:nvSpPr>
        <p:spPr>
          <a:xfrm rot="12357000">
            <a:off x="2771280" y="4941720"/>
            <a:ext cx="1368720" cy="72072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Oval 9"/>
          <p:cNvSpPr/>
          <p:nvPr/>
        </p:nvSpPr>
        <p:spPr>
          <a:xfrm>
            <a:off x="6948360" y="189000"/>
            <a:ext cx="144000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 rot="640200">
            <a:off x="0" y="0"/>
            <a:ext cx="5508720" cy="685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6084720" y="907920"/>
            <a:ext cx="2664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Time Order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6084720" y="2708280"/>
            <a:ext cx="2664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Conn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6084720" y="4437000"/>
            <a:ext cx="2664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Simple Present T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6084720" y="5661000"/>
            <a:ext cx="2664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Technical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6227640" y="1341360"/>
            <a:ext cx="237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xt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6300720" y="3141720"/>
            <a:ext cx="2376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6156360" y="47973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move it by pulling on the str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6084720" y="6021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arionette puppet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684360" y="206064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.O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te an explanation tex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11:44:40Z</dcterms:created>
  <dc:creator>Administrator</dc:creator>
  <dc:description/>
  <dc:language>en-US</dc:language>
  <cp:lastModifiedBy>christine Charuckyj</cp:lastModifiedBy>
  <dcterms:modified xsi:type="dcterms:W3CDTF">2014-08-17T12:04:35Z</dcterms:modified>
  <cp:revision>12</cp:revision>
  <dc:subject/>
  <dc:title>Slide 1</dc:title>
</cp:coreProperties>
</file>